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BE03-CF9D-454F-9B62-E132FAF7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EC2-E1F8-472A-90AD-CB07D846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92F4-5A88-4B06-8302-7D14E542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B35-8B0D-4824-8EC4-6E12A277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F4D-7A42-472A-8A13-97942AE0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CC0-1696-4771-A94E-38AD98C0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EE1-92D5-4B28-9BA3-7A534749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B80-26A1-4B11-B924-879A6FBB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D14-059C-4CE7-AD13-58460E6E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278-CB79-4AA6-B515-5995FAEC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60B-C624-499A-8F90-3BC864A0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26AA-F7A7-4822-93D2-9AC8D3AB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DA3C-D7F3-4613-9298-E885474FF9A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願你國降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Your Kingdom 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願你國降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Your Kingdom 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23:38Z</dcterms:created>
  <dc:creator> </dc:creator>
  <dc:description/>
  <dc:language>en-US</dc:language>
  <cp:lastModifiedBy> </cp:lastModifiedBy>
  <dcterms:modified xsi:type="dcterms:W3CDTF">2004-06-17T00:23:52Z</dcterms:modified>
  <cp:revision>1</cp:revision>
  <dc:subject/>
  <dc:title>願你國降臨 &lt;1/2&gt; Your Kingdom Come</dc:title>
</cp:coreProperties>
</file>